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DC0-4F65-4CBF-AC34-C13BD969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815-FB54-4E37-A6B0-450E028A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8A3-A17E-4FF2-9EBB-40D0FC47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16A-4806-460A-B87C-83DDE9A4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31D-6C31-4BBB-8009-F32A9BF2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7DB-74A5-4887-BAA4-5710DE78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48B-C7E1-4200-AC79-C4DAA179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62B-7D12-49C5-8520-C359A015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18B-630C-4150-9217-4BED4DB8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ADE-144D-4D24-8B83-80E9965D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BD8-AEE1-4C73-B109-48545E02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06D-A64E-4CE0-9FC6-C633D3BB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8691-2AD3-4800-B77E-E424A1FA9F55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000000"/>
                </a:solidFill>
                <a:latin typeface="Calibri"/>
              </a:rPr>
              <a:t>Coastal Depositional Feature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Be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d by constructive wave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epositing materia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sand, shingle and pebbles) that has been transported from further along the coa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lie between high and low watermark and are gently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loping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wards the se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onstantly changing feature, beaches may be built up at certain times of the year, and eroded away at others, depending on the type of waves hitting them at the tim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ten this change can be season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 Be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tejamovies.com/wp-content/uploads/2010/11/Beach-31.jpg"/>
          <p:cNvPicPr/>
          <p:nvPr/>
        </p:nvPicPr>
        <p:blipFill>
          <a:blip r:embed="rId1"/>
          <a:stretch/>
        </p:blipFill>
        <p:spPr>
          <a:xfrm>
            <a:off x="811080" y="1197000"/>
            <a:ext cx="7417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p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long,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rrow ridge of s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ttached at one end to the coa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ilt up by long shor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rift transport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terial along the coa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 a bend or break (for an estuary) in the coastline the material being carried is droppe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ever it is deposited away from the coastlin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the spit builds out to sea the end is affected more by the wind and by wave currents, causing the end to curve towards the shore, to create 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ok e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erial often accumulates in the area of standing water that occurs behind a spit, and this can lead to the forma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alt marsh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its can be areas where large sand dunes build up, nearer the back of 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 Sp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photoeverywhere.co.uk/east/australia/queensland121511.jpg"/>
          <p:cNvPicPr/>
          <p:nvPr/>
        </p:nvPicPr>
        <p:blipFill>
          <a:blip r:embed="rId1"/>
          <a:stretch/>
        </p:blipFill>
        <p:spPr>
          <a:xfrm>
            <a:off x="900000" y="1197000"/>
            <a:ext cx="73310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B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idge of sand that blocks off a bay or river mou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ill create a lagoon behind it is across a non-river b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hays.outcrop.org/images/press3e/figure%2017-17.jpg"/>
          <p:cNvPicPr/>
          <p:nvPr/>
        </p:nvPicPr>
        <p:blipFill>
          <a:blip r:embed="rId1"/>
          <a:stretch/>
        </p:blipFill>
        <p:spPr>
          <a:xfrm>
            <a:off x="3165480" y="3200400"/>
            <a:ext cx="601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ombol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r of deposited material linking the mainland to an is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mrtattieheid.com/Mr%20Tattie%20Heid/Shetland%202000_files/Tombolo.jpg"/>
          <p:cNvPicPr/>
          <p:nvPr/>
        </p:nvPicPr>
        <p:blipFill>
          <a:blip r:embed="rId1"/>
          <a:stretch/>
        </p:blipFill>
        <p:spPr>
          <a:xfrm>
            <a:off x="826920" y="2708280"/>
            <a:ext cx="74581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0:10:17Z</dcterms:created>
  <dc:creator>Dell_02</dc:creator>
  <dc:description/>
  <dc:language>en-US</dc:language>
  <cp:lastModifiedBy>Dell_02</cp:lastModifiedBy>
  <dcterms:modified xsi:type="dcterms:W3CDTF">2011-01-27T00:21:13Z</dcterms:modified>
  <cp:revision>2</cp:revision>
  <dc:subject/>
  <dc:title>Coastal Depositional Features</dc:title>
</cp:coreProperties>
</file>